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E0A-6E5E-4FDD-B367-CE2A3342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57BE-8053-42DF-A9F6-A4F507B8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D7B3-C379-442D-8FA8-7C08C27C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8A21-FE37-4E83-96F3-CE75D5C9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4402-C55D-4535-BB35-67D565F5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CF05-5AD6-4E6F-BEE7-57677DE8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3CC-C880-40C4-8335-6B6DF3D6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D4A-A3F6-40FF-8F9A-2637B483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5E07-A12F-4DCA-BBA5-B8D4CD84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9C56-5A7D-4B3C-B512-0D56C9D0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37DC-1A82-45A1-B412-F0F729AD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7794-6C15-4CE7-9260-FA724305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0190-050C-4274-8315-567445B8C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daptation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Characteristic that helps an organism survive in its environment or reproduc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iological Diversity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range of natural variety of species in an ecosystem (biodiversity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tmospher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mixture of gases surrounding Earth and other planet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tmospheric Pressur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weight of the atmosphere pressing on the surface of Earth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Scientists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Galileo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Study the stars (Astronomy), Heliocentric (Sun is center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ewto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Father of Physics, Forces of Motion (Laws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endeleev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Periodic Table of Eleme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Gregor Mendel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Experiments with Pea plants, Father of Genetics (Heredity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uri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Chemistry (Radioactivity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instei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E=m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3:21:49Z</dcterms:created>
  <dc:creator>Sterling Grade School</dc:creator>
  <dc:description/>
  <dc:language>en-US</dc:language>
  <cp:lastModifiedBy>Sterling Grade School</cp:lastModifiedBy>
  <dcterms:modified xsi:type="dcterms:W3CDTF">2010-04-16T15:08:33Z</dcterms:modified>
  <cp:revision>3</cp:revision>
  <dc:subject/>
  <dc:title>Adaptation</dc:title>
</cp:coreProperties>
</file>